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EDC-DD8B-4EB6-9D8A-4679478C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C98-4474-4DE1-A96B-A2D1FAA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BE3-01BB-44C7-9D50-D6800004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7F5-AADB-4777-BB13-CE9FDEE5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2477-5FD4-43EB-ACBD-82786FAD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B971-BA84-4DAF-8D78-FF4220A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9266-B811-4884-A17B-F2377D9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310-FCE0-469B-A5AB-38426A0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A3E-020C-4DA9-A87D-141C1472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759-95E9-4F27-882E-A023712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CEB-E540-4FF9-B039-944B5FA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A4C-5611-4AEA-9208-C7F8EC3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A1D-04BA-4608-BE45-F3D3D3C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4DF-2EE2-4E0F-9C1E-AACA583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691C-1730-4223-AFFA-4DF3964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28E-722B-404A-BA24-4F725C7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5BA-6E6A-4477-96A5-4274A37E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DA2-C3F6-4D40-B831-65DC5D2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84A-8E12-4C63-B801-89F7C63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0F0-583A-4DEC-901E-28BFFD54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FA0-81AB-4B5F-9EC0-1C8D10E7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7DE-74B5-4AE0-A25E-A1549C4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E93-8878-4B2B-B810-CFB44FF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8A4-FAAB-485C-B1AA-906BB84B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7AA-2902-4996-9684-890EC7A7242E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C931-0752-49B2-9DB3-DA765C66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Click to add subtitle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Agenda I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800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3964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7148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156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060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3460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11680" y="1782360"/>
            <a:ext cx="6437160" cy="1387800"/>
            <a:chOff x="1111680" y="1782360"/>
            <a:chExt cx="6437160" cy="1387800"/>
          </a:xfrm>
        </p:grpSpPr>
        <p:sp>
          <p:nvSpPr>
            <p:cNvPr id="143" name=""/>
            <p:cNvSpPr/>
            <p:nvPr/>
          </p:nvSpPr>
          <p:spPr>
            <a:xfrm rot="3418800">
              <a:off x="1321920" y="20073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286360" y="2179080"/>
              <a:ext cx="931680" cy="131760"/>
              <a:chOff x="2286360" y="2179080"/>
              <a:chExt cx="931680" cy="13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228636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7564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7692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5288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3418800">
              <a:off x="3043080" y="1941480"/>
              <a:ext cx="924480" cy="100368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07880" y="2179080"/>
              <a:ext cx="931680" cy="131760"/>
              <a:chOff x="4007880" y="2179080"/>
              <a:chExt cx="931680" cy="13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0078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971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984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744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3418800">
              <a:off x="4692600" y="1941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729040" y="2179080"/>
              <a:ext cx="1218240" cy="131760"/>
              <a:chOff x="5729040" y="2179080"/>
              <a:chExt cx="1218240" cy="131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72904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4568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6260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19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3418800">
              <a:off x="6413760" y="1941480"/>
              <a:ext cx="924480" cy="100368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4252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950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52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804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793880"/>
          <a:ext cx="7620120" cy="376848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4315b"/>
                        </a:gs>
                        <a:gs pos="50000">
                          <a:srgbClr val="2d6bc7"/>
                        </a:gs>
                        <a:gs pos="100000">
                          <a:srgbClr val="14315b"/>
                        </a:gs>
                      </a:gsLst>
                      <a:lin ang="54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4675"/>
                        </a:gs>
                        <a:gs pos="50000">
                          <a:srgbClr val="9999ff"/>
                        </a:gs>
                        <a:gs pos="100000">
                          <a:srgbClr val="46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601600">
            <a:off x="1382400" y="22082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1600">
            <a:off x="1435320" y="2175840"/>
            <a:ext cx="569844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rot="20602200">
            <a:off x="1438200" y="218988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601600">
            <a:off x="1440000" y="218808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rot="20602200">
            <a:off x="142344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8840" y="1509120"/>
            <a:ext cx="6919200" cy="4357800"/>
            <a:chOff x="528840" y="1509120"/>
            <a:chExt cx="6919200" cy="4357800"/>
          </a:xfrm>
        </p:grpSpPr>
        <p:sp>
          <p:nvSpPr>
            <p:cNvPr id="184" name=""/>
            <p:cNvSpPr/>
            <p:nvPr/>
          </p:nvSpPr>
          <p:spPr>
            <a:xfrm rot="20712600">
              <a:off x="781560" y="2280960"/>
              <a:ext cx="6413400" cy="28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712600">
              <a:off x="4186440" y="347940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712600">
              <a:off x="5562360" y="364788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03680" y="1212480"/>
            <a:ext cx="6957360" cy="4863240"/>
            <a:chOff x="1003680" y="1212480"/>
            <a:chExt cx="6957360" cy="4863240"/>
          </a:xfrm>
        </p:grpSpPr>
        <p:sp>
          <p:nvSpPr>
            <p:cNvPr id="188" name="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539200">
              <a:off x="1323720" y="209844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601600">
              <a:off x="4757760" y="3381480"/>
              <a:ext cx="1332000" cy="168876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4325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0960" y="4554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38080" y="4254480"/>
            <a:ext cx="1513080" cy="1511280"/>
            <a:chOff x="838080" y="4254480"/>
            <a:chExt cx="1513080" cy="1511280"/>
          </a:xfrm>
        </p:grpSpPr>
        <p:sp>
          <p:nvSpPr>
            <p:cNvPr id="200" name=""/>
            <p:cNvSpPr/>
            <p:nvPr/>
          </p:nvSpPr>
          <p:spPr>
            <a:xfrm>
              <a:off x="838080" y="4254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8080" y="42544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b7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7080" y="4353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7080" y="43531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b4a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2960" y="44190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63760" y="25430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ff9900"/>
              </a:gs>
              <a:gs pos="100000">
                <a:srgbClr val="fedca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486320" y="4267080"/>
            <a:ext cx="1512720" cy="1511280"/>
            <a:chOff x="4486320" y="4267080"/>
            <a:chExt cx="1512720" cy="1511280"/>
          </a:xfrm>
        </p:grpSpPr>
        <p:sp>
          <p:nvSpPr>
            <p:cNvPr id="208" name=""/>
            <p:cNvSpPr/>
            <p:nvPr/>
          </p:nvSpPr>
          <p:spPr>
            <a:xfrm>
              <a:off x="448632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d6bc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8632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d6bc7"/>
                </a:gs>
                <a:gs pos="100000">
                  <a:srgbClr val="86a9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8532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8396b"/>
                </a:gs>
                <a:gs pos="50000">
                  <a:srgbClr val="2d6bc7"/>
                </a:gs>
                <a:gs pos="100000">
                  <a:srgbClr val="1839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532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53360"/>
                </a:gs>
                <a:gs pos="100000">
                  <a:srgbClr val="2d6b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1200" y="44316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4315b"/>
                </a:gs>
                <a:gs pos="100000">
                  <a:srgbClr val="2d6b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59400" y="4267080"/>
            <a:ext cx="1513080" cy="1511280"/>
            <a:chOff x="6359400" y="4267080"/>
            <a:chExt cx="1513080" cy="1511280"/>
          </a:xfrm>
        </p:grpSpPr>
        <p:sp>
          <p:nvSpPr>
            <p:cNvPr id="214" name=""/>
            <p:cNvSpPr/>
            <p:nvPr/>
          </p:nvSpPr>
          <p:spPr>
            <a:xfrm>
              <a:off x="635940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59400" y="42670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5840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58400" y="43657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84848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24280" y="44316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687760" y="4267080"/>
            <a:ext cx="1512720" cy="1511280"/>
            <a:chOff x="2687760" y="4267080"/>
            <a:chExt cx="1512720" cy="1511280"/>
          </a:xfrm>
        </p:grpSpPr>
        <p:sp>
          <p:nvSpPr>
            <p:cNvPr id="220" name=""/>
            <p:cNvSpPr/>
            <p:nvPr/>
          </p:nvSpPr>
          <p:spPr>
            <a:xfrm>
              <a:off x="268776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7760" y="42670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b7b7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676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86760" y="43657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a4a7b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2640" y="44316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905120" y="19051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e5e5fe"/>
              </a:gs>
              <a:gs pos="100000">
                <a:srgbClr val="9999ff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04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80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0" y="4890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2760" y="4876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7:10:07Z</dcterms:created>
  <dc:creator>Bonnie Ritchey</dc:creator>
  <dc:description/>
  <dc:language>en-US</dc:language>
  <cp:lastModifiedBy>Bonnie Ritchey</cp:lastModifiedBy>
  <dcterms:modified xsi:type="dcterms:W3CDTF">2004-10-24T17:10:29Z</dcterms:modified>
  <cp:revision>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